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86FC-0E2E-426F-AEB7-B6EE3A38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2A96-00FB-41F4-A8C5-C11F01A1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D993-005A-4E79-8BCC-62120E89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4013-ED03-4A14-ADA4-A530F818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C0BB7-798A-4EBA-810E-128EB3BB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22625-0A50-4922-AE44-4307AE7F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D10C6-623D-4B1B-A1CD-FF31EC4B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FFEF7-F045-4E2F-BB19-BBFE44EE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F74C7-44FE-464F-8DE8-3DFD6AF7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B1CA3-11AD-40C5-8455-F2C57762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DB2CB-B2D1-4B2C-8A4E-A30CD4C5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7041-DEC8-48F7-8A59-AF68EE74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65EFE-A1D6-49B4-AD3D-81DE61C3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C9B27-C881-42E6-B490-8D8E47E0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00F67-FEEE-4320-B882-0DECF163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E9E68-F0AB-44C9-B264-41D48741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88427-EE6B-4AC9-9738-FD124143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40C5-EAF4-487B-8A6C-16F8C335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E561-6773-4D87-BD55-274D0D48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E1D6-A70F-4E08-BA9B-DB34B7C2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E09A-A4E1-40EA-BE9E-8565116C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8663-8C0A-47CF-ADF5-2CB375E9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6A1-D217-4366-85F9-C7E1153C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8A0C-1723-4DEB-A871-4495782D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37D8-E72B-4604-9819-5B5D7CC5E4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269F-1042-4D4A-8939-D660B3A162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eiu.edu/~gearup/units/pact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eiu.edu/~gearup/units/pact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sked.gov.sk.ca/branches/curr/evergreen/index.s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e3e3ff"/>
                </a:solidFill>
                <a:latin typeface="Arial"/>
              </a:rPr>
              <a:t>What Do Teachers Do?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e3e3ff"/>
                </a:solidFill>
                <a:latin typeface="Arial"/>
              </a:rPr>
              <a:t>UNIT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A plan to teach a series of related lessons on a particular theme (Lang, Evans, 2006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Unit Plann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LES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 road map created by the teacher to guide the teaching/learning activities during a specific period of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Lesson Pla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What Do Teachers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What Do Teachers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What educational purposes should the school seek to attai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What educational experiences can be provided that are likely to attain these purpos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How can these educational experiences be effectively organiz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How can we determine whether these purposes are being attain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Ralph W. Tyler (194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What Do Teachers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What should we teach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How can we help our students lear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How should this learning be organiz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How do we know when the learning has taken pla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What Do Teachers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How can we help our students lear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How should this learning be organiz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ffffff"/>
                </a:solidFill>
                <a:latin typeface="Arial"/>
              </a:rPr>
              <a:t>How do people learn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What Do Teachers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reate a safe, nurturing environment for stud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reate an environment that maximizes the probability that students will lea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200" spc="-1" strike="noStrike">
                <a:solidFill>
                  <a:srgbClr val="ffffff"/>
                </a:solidFill>
                <a:latin typeface="Arial"/>
              </a:rPr>
              <a:t>Make Decision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0" spc="-1" strike="noStrike">
                <a:solidFill>
                  <a:srgbClr val="e3e3ff"/>
                </a:solidFill>
                <a:latin typeface="Arial"/>
              </a:rPr>
              <a:t>Make Decisions</a:t>
            </a:r>
            <a:endParaRPr b="0" lang="en-US" sz="8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rial"/>
              </a:rPr>
              <a:t>During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0" spc="-1" strike="noStrike">
                <a:solidFill>
                  <a:srgbClr val="e3e3ff"/>
                </a:solidFill>
                <a:latin typeface="Arial"/>
              </a:rPr>
              <a:t>BEFORE</a:t>
            </a:r>
            <a:endParaRPr b="0" lang="en-US" sz="8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rial"/>
              </a:rPr>
              <a:t>Curriculum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rial"/>
              </a:rPr>
              <a:t>Unit Pla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rial"/>
              </a:rPr>
              <a:t>Lesson Pla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e3e3ff"/>
                </a:solidFill>
                <a:latin typeface="Arial"/>
              </a:rPr>
              <a:t>CURRICULUM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The Saskatchewan Evergreen Curriculum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21:02:13Z</dcterms:created>
  <dc:creator>Reviewer</dc:creator>
  <dc:description/>
  <dc:language>en-US</dc:language>
  <cp:lastModifiedBy>Reviewer</cp:lastModifiedBy>
  <dcterms:modified xsi:type="dcterms:W3CDTF">2009-09-29T22:07:37Z</dcterms:modified>
  <cp:revision>6</cp:revision>
  <dc:subject/>
  <dc:title>What Do Teachers Do?</dc:title>
</cp:coreProperties>
</file>